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859-FF88-44FB-9E84-20C7A1E0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6E6-F83F-4577-9780-5A69735C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F07-2ADC-4BDB-B7DF-13851AC6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C9F-49D8-4295-9CE5-A717AD1E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98A-6A0D-4A8A-9948-01D904CC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F6F-43CA-4670-9ECD-0B229174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FF7-7904-4E07-80F7-A89CDC6A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967-28EC-48F9-9234-A28DB3B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A8A-3E22-4F90-9794-43A2D931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E61-7D84-455B-8F81-694CFA0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349-0F63-43F5-B56C-A7F1898A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C07-D18E-4329-B34F-8BAD9F3D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15B4-B347-42E3-8AD7-6356D862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 Dad Poor 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Why People Don’t Make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n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ar of losing money isn’t b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ful people should safe money when they are yo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r of losing money can be dispelled by learning from your l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eople who have made lots of money have lost lot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inspires winners and defeats lo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aste money on useless things out of f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nic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” and criticism cloud your judg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eoples negative opinions can make you back out of good de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’s Remorse can also make you back out of good d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nics think about the means without thinking about the end result or g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nics criticize winners analy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z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don’t have time to manage your w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y People work to avoid more importa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e for laziness is greed. Ask what is in it for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 a little greed is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 is better than guilt and regr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ziness says you worked hard today when you did everything except the important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Ha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are good at what they do are good because they have good habits. Arnold Schwarzenegger was strong because he made a habit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pay all their bills then use what is left for themselves. A better habit is to pay your self then your b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og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gance leads people to think that what they don’t know isn’t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know makes you money what you don’t loses money. “The more you know, the less you don’t kno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to Wi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8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ay “I can’t afford something”, instead ask, “How can I afford someth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yourself before you pay anyone else. You will always find away to pay the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big, dream big and you’ll los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e Big and turn that loss into a w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4:47:59Z</dcterms:created>
  <dc:creator>Info Tech</dc:creator>
  <dc:description/>
  <dc:language>en-US</dc:language>
  <cp:lastModifiedBy>Info Tech</cp:lastModifiedBy>
  <dcterms:modified xsi:type="dcterms:W3CDTF">2009-03-23T15:05:55Z</dcterms:modified>
  <cp:revision>4</cp:revision>
  <dc:subject/>
  <dc:title>Rich Dad Poor Dad</dc:title>
</cp:coreProperties>
</file>